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 rot="16200000">
            <a:off x="-1295280" y="2573280"/>
            <a:ext cx="4724640" cy="1828800"/>
          </a:xfrm>
          <a:prstGeom prst="flowChartOffpageConnector">
            <a:avLst/>
          </a:prstGeom>
          <a:solidFill>
            <a:srgbClr val="ffffff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7620120" y="1887480"/>
            <a:ext cx="1295280" cy="335772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c0c0c0"/>
                </a:solidFill>
                <a:latin typeface="Arial"/>
              </a:rPr>
              <a:t>Gesundh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7"/>
          <p:cNvSpPr/>
          <p:nvPr/>
        </p:nvSpPr>
        <p:spPr>
          <a:xfrm>
            <a:off x="237960" y="1214280"/>
            <a:ext cx="2462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Entwickl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gesundheitsfördern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Angebo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8"/>
          <p:cNvSpPr/>
          <p:nvPr/>
        </p:nvSpPr>
        <p:spPr>
          <a:xfrm>
            <a:off x="228600" y="2496960"/>
            <a:ext cx="24620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Interessenvertret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Zusammenarbe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Organisati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9"/>
          <p:cNvSpPr/>
          <p:nvPr/>
        </p:nvSpPr>
        <p:spPr>
          <a:xfrm>
            <a:off x="237960" y="3639960"/>
            <a:ext cx="2462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Soziale Mobilisier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>
            <a:off x="237960" y="4782960"/>
            <a:ext cx="181944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Entwickl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persönlich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Kompetenz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1"/>
          <p:cNvSpPr/>
          <p:nvPr/>
        </p:nvSpPr>
        <p:spPr>
          <a:xfrm>
            <a:off x="2133720" y="1297080"/>
            <a:ext cx="2627280" cy="10476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1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c0c0c0"/>
                </a:solidFill>
                <a:latin typeface="Arial"/>
              </a:rPr>
              <a:t>Gesundheitsfördernde Angebo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2"/>
          <p:cNvSpPr/>
          <p:nvPr/>
        </p:nvSpPr>
        <p:spPr>
          <a:xfrm>
            <a:off x="2133720" y="2421000"/>
            <a:ext cx="2627280" cy="10476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2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c0c0c0"/>
                </a:solidFill>
                <a:latin typeface="Arial"/>
              </a:rPr>
              <a:t>Strategien in Politik u. Organis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23"/>
          <p:cNvSpPr/>
          <p:nvPr/>
        </p:nvSpPr>
        <p:spPr>
          <a:xfrm>
            <a:off x="2133720" y="3564000"/>
            <a:ext cx="2627280" cy="10476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3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c0c0c0"/>
                </a:solidFill>
                <a:latin typeface="Arial"/>
              </a:rPr>
              <a:t>Soziales Potenzial u. Eng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4"/>
          <p:cNvSpPr/>
          <p:nvPr/>
        </p:nvSpPr>
        <p:spPr>
          <a:xfrm>
            <a:off x="2133720" y="4707000"/>
            <a:ext cx="2627280" cy="10476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4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c0c0c0"/>
                </a:solidFill>
                <a:latin typeface="Arial"/>
              </a:rPr>
              <a:t>Individuelle Gesundheitskompetenz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25"/>
          <p:cNvSpPr/>
          <p:nvPr/>
        </p:nvSpPr>
        <p:spPr>
          <a:xfrm>
            <a:off x="4876920" y="1582560"/>
            <a:ext cx="2666880" cy="115272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C1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c0c0c0"/>
                </a:solidFill>
                <a:latin typeface="Arial"/>
              </a:rPr>
              <a:t>Materielle Umw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26"/>
          <p:cNvSpPr/>
          <p:nvPr/>
        </p:nvSpPr>
        <p:spPr>
          <a:xfrm>
            <a:off x="4876920" y="2878200"/>
            <a:ext cx="2666880" cy="125568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C2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c0c0c0"/>
                </a:solidFill>
                <a:latin typeface="Arial"/>
              </a:rPr>
              <a:t>Soziale/gesellschaftliche Umw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27"/>
          <p:cNvSpPr/>
          <p:nvPr/>
        </p:nvSpPr>
        <p:spPr>
          <a:xfrm>
            <a:off x="4876920" y="4249800"/>
            <a:ext cx="2666880" cy="125568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C3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c0c0c0"/>
                </a:solidFill>
                <a:latin typeface="Arial"/>
              </a:rPr>
              <a:t>Personale Ressourcen/ Verhal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694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00"/>
                </a:solidFill>
                <a:latin typeface="Arial"/>
              </a:rPr>
              <a:t>Das Wirkungsmodell des Projektes</a:t>
            </a:r>
            <a:br>
              <a:rPr sz="2000"/>
            </a:br>
            <a:r>
              <a:rPr b="1" lang="de-CH" sz="1400" spc="-1" strike="noStrike">
                <a:solidFill>
                  <a:srgbClr val="ff9900"/>
                </a:solidFill>
                <a:latin typeface="Arial"/>
              </a:rPr>
              <a:t>(Basis: Ergebnismodell Gesundheitsförderung Schweiz)</a:t>
            </a:r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8458200" y="6056280"/>
            <a:ext cx="4572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2268360" y="5950080"/>
            <a:ext cx="1727280" cy="23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Ziel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2268360" y="6381720"/>
            <a:ext cx="1727280" cy="23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Ziel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4356000" y="5950080"/>
            <a:ext cx="1440000" cy="231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Vision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4356000" y="6381720"/>
            <a:ext cx="1440000" cy="231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Vision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79280" y="5950080"/>
            <a:ext cx="1727280" cy="231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Massnahm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179280" y="6381720"/>
            <a:ext cx="1727280" cy="231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Massnahm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6300720" y="5877000"/>
            <a:ext cx="2808360" cy="8510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Hinweise zur Nutzung: 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 -  Die Kästchen können beliebig 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    verschoben, vergrössert und kopiert werd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-  Verbindungspfeile über Symbolleiste 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    Zeichnen hinzufü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31"/>
          <p:cNvCxnSpPr>
            <a:stCxn id="55" idx="3"/>
            <a:endCxn id="51" idx="1"/>
          </p:cNvCxnSpPr>
          <p:nvPr/>
        </p:nvCxnSpPr>
        <p:spPr>
          <a:xfrm>
            <a:off x="1906560" y="6065640"/>
            <a:ext cx="362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 rot="16200000">
            <a:off x="-1295280" y="3123720"/>
            <a:ext cx="4724280" cy="1828800"/>
          </a:xfrm>
          <a:prstGeom prst="flowChartOffpageConnector">
            <a:avLst/>
          </a:prstGeom>
          <a:solidFill>
            <a:srgbClr val="ff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7620120" y="2438280"/>
            <a:ext cx="1295280" cy="3357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Gesundh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steige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- gesunde   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Lebenserwartu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sundheitsbezoge-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ne Lebensqualitä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Verringer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orbidität 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- vorzeitige Mortalität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37960" y="1765440"/>
            <a:ext cx="2462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Entwickl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gesundheitsfördern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ngebo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" y="3048120"/>
            <a:ext cx="24620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Interessenvertret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Zusammenarbe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Organisati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37960" y="4191120"/>
            <a:ext cx="2462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Soziale Mobilisier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37960" y="5334120"/>
            <a:ext cx="181944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Entwickl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persönlich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Kompetenz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133720" y="1847880"/>
            <a:ext cx="2627280" cy="1047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Gesundheitsfördernde Angebo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Bekanntheit des Angebo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Zugänglichkeit und Zielgruppenerreichu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Nutzung und Zufriedenhe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Verankerung und Nachhaltigke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Verbesserung der Fachkompetenz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133720" y="2971800"/>
            <a:ext cx="2627280" cy="1047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Strategien in Politik u. Organis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Verbindliches Eng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Handlungsrelevante verbindliche schriftliche Grundla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unktionierende organisator. Änderun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unktionierender Austausch / Koordin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2133720" y="4114800"/>
            <a:ext cx="2627280" cy="1047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3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Soziales Potenzial u. Eng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Bestehen von aktiven Grup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Mitarbeit neuer Akte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Bekanntheit des Anliegen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Akzeptanz des Anliege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2133720" y="5257800"/>
            <a:ext cx="2627280" cy="1047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4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Individuelle Gesundheitskompetenz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Wissen zum Vorgehen/Th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Positive Einstellungen zum Th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Neue personale/soziale Fertigkei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Gestärktes Selbstvertrau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876920" y="2133720"/>
            <a:ext cx="2666880" cy="11523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Materielle Umw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Reduktion belastender physikalisch-chemischer Einflüs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Erhaltung und Verbesserung natürlicher Ressourc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Gesundheitsfördernde Einrichtungen und Produk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876920" y="3429000"/>
            <a:ext cx="2666880" cy="12556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Soziale/gesellschaftliche Umw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Soziale Unterstützung/Netze/Inte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Soziales Kli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Zugang zu allgemeinen gesellschaftlichen Ressourc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4876920" y="4800600"/>
            <a:ext cx="2666880" cy="12556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C3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Personale Ressourcen/ Verhal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Gesundheitsfördernde personale Ressourc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Gesundheitsrelevantes Verhalten / Verhaltensmu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8458200" y="6056280"/>
            <a:ext cx="4572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765000"/>
            <a:ext cx="8763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9900"/>
                </a:solidFill>
                <a:latin typeface="Arial"/>
              </a:rPr>
              <a:t>Referenz</a:t>
            </a:r>
            <a:br>
              <a:rPr sz="2400"/>
            </a:br>
            <a:r>
              <a:rPr b="1" lang="de-CH" sz="1600" spc="-1" strike="noStrike">
                <a:solidFill>
                  <a:srgbClr val="ff9900"/>
                </a:solidFill>
                <a:latin typeface="Arial"/>
              </a:rPr>
              <a:t>Das Ergebnismodell von Gesundheitsförderung Schweiz mit seinen Unterkategorien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75" name="Grafik 1" descr=""/>
          <p:cNvPicPr/>
          <p:nvPr/>
        </p:nvPicPr>
        <p:blipFill>
          <a:blip r:embed="rId1"/>
          <a:stretch/>
        </p:blipFill>
        <p:spPr>
          <a:xfrm>
            <a:off x="6691320" y="47520"/>
            <a:ext cx="2452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0:28:00Z</dcterms:created>
  <dc:creator>Sabine Dufaux</dc:creator>
  <dc:description/>
  <dc:language>en-US</dc:language>
  <cp:lastModifiedBy>admin</cp:lastModifiedBy>
  <dcterms:modified xsi:type="dcterms:W3CDTF">2014-03-25T18:09:42Z</dcterms:modified>
  <cp:revision>18</cp:revision>
  <dc:subject/>
  <dc:title>Présentation PowerPoint</dc:title>
</cp:coreProperties>
</file>